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35E-92CB-4B2E-B075-4BCF90A7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466-1F2A-4FCD-BE38-19D0D1C9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B2D-07FF-464F-B50F-6C0F66C8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3DD-3908-4B82-8D4B-9E3DFD6E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A4C-D7DE-4F94-A2C3-50E5C105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2B1-9C4A-40FA-966B-A3298531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DC1-A49D-4F46-9735-BACAE6D0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3DE-8394-48DF-B3A2-87E4532B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67D-99BB-4976-9D12-75565B8B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40E-7C8E-446E-8257-50FFCF89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D7C-6C86-4D18-AB78-FD688A9C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557-5B4F-47E3-9291-0C3E94A8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7C62-0A55-4893-99A8-D509FDB72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HYBRID DESIGN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86600" cy="439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4440" y="914400"/>
            <a:ext cx="86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Hybrid Designs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combine the elem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t least two basic desig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extend the strategy of one basic des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rough re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5120" y="4191120"/>
            <a:ext cx="72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popular hybrid designs are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case-cohort study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nd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nested case-control study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038480"/>
            <a:ext cx="777240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2360" y="1143000"/>
            <a:ext cx="801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Incomplete Desig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re studies in which informati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missing on one or more relevant fac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080" y="3352680"/>
            <a:ext cx="799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a800"/>
                </a:solidFill>
                <a:latin typeface="Times New Roman"/>
              </a:rPr>
              <a:t>Ecologic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Proportional (Morbidity or Mortality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352680"/>
            <a:ext cx="7924680" cy="2438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23524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315200" cy="382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876920"/>
            <a:ext cx="51055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70880" y="2271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iwan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2:26Z</dcterms:modified>
  <cp:revision>111</cp:revision>
  <dc:subject/>
  <dc:title>The Art in the State of the Art</dc:title>
</cp:coreProperties>
</file>